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121-D044-4670-BF72-98494D32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D2E-B03D-46B7-A50E-0D10119E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FE1255-39A2-46C6-9115-CACF7CC7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95C17F-AF09-487A-936E-6DE7355C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3CDD10-9CBA-44EC-994A-A7A39976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3607D1-40B6-4443-B29B-8F1A35B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56078E-F0A1-4D37-860D-0BA7B01C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D17FB9-F5D9-4D44-B1A1-FA16B897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3E1B4B-B0D8-48A9-892E-C3F6A442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6D5ECE-74F7-4B85-854E-FE6DD5EE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FC5F30-A149-45C3-A554-F9CF2C6F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306-0100-403C-81C7-79C4E5EF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667-D3AA-4858-9810-DE82FCE9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66D89-13C7-474C-8E61-ABA85735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5FECF-B3BA-4B2C-879F-AE6910FB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BA33F-BA6C-4D14-889E-69C82E28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B5A03-DB48-4930-876E-E3F3848F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5B1C0-278E-4916-B557-97F16BF0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F621D-7737-4CCF-964F-D0F66210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6C274-4322-4F33-8F62-2E57DF01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B76-C13E-483F-B6AA-F84B2BA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C6F75-B23A-4962-BB92-1693F152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8D960-5FD7-4C24-857E-DA8A28C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F1CA9-04C3-43ED-8E86-91E89206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1B21F-4F3E-470E-A04E-FDDCD9DF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CEB3A-AEDB-4115-AE28-6A9103A8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1774-B89D-4595-B94B-3A72E2F8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44E0-0869-4174-B9BE-E62FA59E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EA60-B766-4828-BE98-622D1B63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615EB-D9F1-409B-9ECB-BB59BDCA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E2F8-8B32-4D10-BC2A-1D2EAC4D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727-19C6-417F-B9A5-B68E8316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AF451-2554-487F-B18A-FB030417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08311-F8E4-4380-8AF6-58D34901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3C94E-99A1-4CE6-BF06-C779D6CF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FC283-BC87-45ED-B62D-F375807F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F3C20-B5B1-4F08-8365-2808DB1C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23A8D-A19D-431C-B444-0F8DD092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FF5C-2534-4751-8282-4C5DCF0B1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C976B-622E-4E8E-B11C-2D3BEB4B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105C66-B0BE-44FF-8911-06257872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4B83C-785F-49D2-AD2C-0EB5912C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0E3-A114-49C2-87C2-E6ACF3C5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058AC-2013-4073-A503-D8434D7D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710ED-0815-4E3F-AAC8-47BB6D7E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C878F-DA83-400D-A0EB-CD93F525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AB80BA-EB91-4DE2-B467-06B46735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898B09-FFA8-4A20-A884-EBFC05FC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FAC7F-4921-4FB4-96E3-8A2530D9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8E4C0-B4C3-460F-A6F4-AFE4E815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B85DC-3F16-4877-A6DB-AB07A5A6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B6FE5-30BE-40EB-8A05-D73668F1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F4877-A8ED-415C-BDF4-39533C2F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164-975A-41FE-8E8A-E59EA52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7383F-7FB2-44D3-846C-D0AE6B22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4D33A-122D-4926-9607-12EF7D92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F031E-198B-4CF6-9E75-7710B2C1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69377-F56A-4091-A64D-3CF54EB5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2BCDD-C22B-4FC2-8CC6-07A2DDA3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77E09-298B-4E06-A6D3-3D112132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BB518-D477-48E6-86EE-422697D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1A0C-C87A-40D1-AEFD-56898A9F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782EA-9293-4D2D-AFE2-A4B909A8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314E8-4BDE-4728-AD55-CB4CD90A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841-96F7-48DE-A265-58965B08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A8B38-E752-43C8-9870-537A98DF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4D416-76E1-4043-96CE-86E933DB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FDD22-BB39-4BBD-A12D-EBB3ED4F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AAD07-BDA6-44E3-A3D6-E86313C3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C229A-73D3-41C0-968D-51CFDE85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5AE38-76CC-4363-82D4-5BF558C6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B7D2B-3EA1-466D-B0AF-34CE40F9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96560-ACF6-471C-B56B-098AF79F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CAD3-09EF-4023-83C9-0E3CCB07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C2145-E430-4472-B08A-2EE07331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15B-C881-4A11-9489-7E53E8F5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BFC8F-EBD4-4659-8269-6B1B02E6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0A9B3-33C4-45E7-9BEF-2EF727C1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85EB2-4857-43AD-BE9B-EC904D36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19898-9CB0-4236-BE0F-2DB61183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66897-AE92-4FD0-8FCE-6A1EB45C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74AAB-0FCB-480A-99F5-C9EBDEA9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8043D-70D1-4C94-BB3F-96164BCA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A76A4-6853-4308-8AF9-63935474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5AB31-BF18-4D9D-A424-78B1A613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1E9A-2952-4A13-8F9D-A76F22E2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CB1-AF67-4C43-BB41-D52EFBF6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E723E-F9F4-43F4-9308-B157FAE3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0670-F227-4252-AD2B-258FB33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51B46-9844-4E0D-94B1-36F6768D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E221F-57F9-4772-BEDA-518B611F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8F092-7FA6-4162-BC05-42CAA436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0EF767-615F-4401-BA8D-E3C1436A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FE1374-3170-429A-B50F-BEB974B4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33BCCD-893F-492F-A682-ED0CF3DA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430BCD-3881-49B9-A154-9883BE1D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A7E462-4161-411A-9238-A4BA093C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A99-5D42-4D0D-BA63-211C9E7A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8434FB-0341-4CBE-B777-EBEA220E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56F538-FBB8-40A0-874A-ED0562C8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B45052-D983-444E-8E5D-CF886212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7EAB20-5C61-4D0A-8F3F-A47B2315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5D364F-29B1-4AF4-9EB1-0AF2A1BA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801A6-24D4-4319-8E92-592802ED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B7EF93-CB36-43BE-ACA7-AB5CF0B4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93FA42-EBC1-4214-B9C8-2D1284DA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5ADE78-2812-4C8D-BF72-A81C80B7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6484BA-B384-455A-8F04-9CE43D3A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FB3A-ECBE-4719-A041-7F91DEFAC58A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F9CC-63BE-4E28-93E0-1439FF1F4E53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04C9-75A8-42FC-B9A2-1F85E0969740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2C17-21FD-4E21-AEBD-AB7EA72B42A8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1332-DDED-4A5A-84F1-A87012DC8AE6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254-235E-44B0-8CBC-6195DD0F358E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D8AC-C19B-4B24-B10A-1F5516FAC3B0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FBFC-2D06-4527-B56B-88E767346FDB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DD5B-241E-4763-BF34-18178B762262}" type="slidenum">
              <a:rPr b="0" lang="en-NZ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143680" y="2571840"/>
            <a:ext cx="4192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Sophie Bowde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4" descr="http://shop.discoveringegypt.com/images/LuxorTemple2.jpg"/>
          <p:cNvPicPr/>
          <p:nvPr/>
        </p:nvPicPr>
        <p:blipFill>
          <a:blip r:embed="rId2"/>
          <a:srcRect l="0" t="0" r="12687" b="0"/>
          <a:stretch/>
        </p:blipFill>
        <p:spPr>
          <a:xfrm>
            <a:off x="0" y="3143160"/>
            <a:ext cx="5403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1920960" y="-6480"/>
            <a:ext cx="5533920" cy="10861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2"/>
          <a:srcRect l="0" t="0" r="11524" b="10001"/>
          <a:stretch/>
        </p:blipFill>
        <p:spPr>
          <a:xfrm>
            <a:off x="357120" y="1285920"/>
            <a:ext cx="821556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364600" cy="1152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rcRect l="0" t="0" r="11527" b="6945"/>
          <a:stretch/>
        </p:blipFill>
        <p:spPr>
          <a:xfrm>
            <a:off x="1000080" y="1571760"/>
            <a:ext cx="72867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206360" y="152280"/>
            <a:ext cx="7377120" cy="8654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rcRect l="0" t="0" r="11524" b="8126"/>
          <a:stretch/>
        </p:blipFill>
        <p:spPr>
          <a:xfrm>
            <a:off x="547560" y="1285920"/>
            <a:ext cx="79264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352520" y="-6480"/>
            <a:ext cx="7035840" cy="10861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2"/>
          <a:srcRect l="0" t="0" r="11524" b="7186"/>
          <a:stretch/>
        </p:blipFill>
        <p:spPr>
          <a:xfrm>
            <a:off x="571680" y="1285920"/>
            <a:ext cx="7953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48840" cy="13114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rcRect l="0" t="0" r="12514" b="9085"/>
          <a:stretch/>
        </p:blipFill>
        <p:spPr>
          <a:xfrm>
            <a:off x="642960" y="1714680"/>
            <a:ext cx="74073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37680" cy="1384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rcRect l="0" t="0" r="11527" b="7507"/>
          <a:stretch/>
        </p:blipFill>
        <p:spPr>
          <a:xfrm>
            <a:off x="714240" y="1714680"/>
            <a:ext cx="7336080" cy="47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353880" y="212760"/>
            <a:ext cx="8425080" cy="1219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rcRect l="0" t="0" r="11527" b="7507"/>
          <a:stretch/>
        </p:blipFill>
        <p:spPr>
          <a:xfrm>
            <a:off x="950760" y="1600200"/>
            <a:ext cx="71931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07880" y="182520"/>
            <a:ext cx="8467920" cy="12193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rcRect l="0" t="0" r="11527" b="7507"/>
          <a:stretch/>
        </p:blipFill>
        <p:spPr>
          <a:xfrm>
            <a:off x="857160" y="1571760"/>
            <a:ext cx="728208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3:08:45Z</dcterms:created>
  <dc:creator>Diocesan School for Girls</dc:creator>
  <dc:description/>
  <dc:language>en-US</dc:language>
  <cp:lastModifiedBy>Diocesan School for Girls</cp:lastModifiedBy>
  <dcterms:modified xsi:type="dcterms:W3CDTF">2009-09-01T22:20:44Z</dcterms:modified>
  <cp:revision>14</cp:revision>
  <dc:subject/>
  <dc:title>Slide 1</dc:title>
</cp:coreProperties>
</file>